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B3A-6CA0-4D34-9120-3F7FF106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40A-5411-49BF-9E91-F51D446D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A87-DDF0-49AE-92F0-32FF688A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BBF-8132-4211-B106-A30CC14E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4B9-6058-4DC3-BE49-E7B20085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DAA-16CF-4F66-B31A-A909241D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0BAF-B8E1-4C45-8C46-91649D63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CBD1-5CEB-423D-AF84-492831F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BA75-6AE9-4F62-95C5-BABDF3A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2886-C034-42E5-9F2A-CB028D3C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295C-EC5F-4326-BF00-E04B9287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FEA-6C3C-440D-BC64-C2873D4A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D0BE-1224-4EF7-8033-EA5BC0A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00A0-DD92-4CB1-BC38-53181B4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C7B-D6BF-4A08-A7DD-82A38A85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81F-DD85-4842-8FD1-A8D07D81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582-1A35-4CCC-B765-7E6F9415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D2D-8FAF-4DC7-95F3-7F3C5E6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E51-2916-4C79-A727-2C9E40E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200-397E-4862-B97C-7E0F359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555-CFCE-4147-8393-03063926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35F-7225-40DB-B6B0-3DD7FAD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BDA-C3A6-41A2-A228-A524D08C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B11-AE5C-4345-8196-54859D8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98C1-8862-45FE-9710-F2EEAAB4867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D326-E4A3-4B0C-9D6F-EF401672936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ИНГАЛЯЦИОННАЯ ТЕРАПИЯ БРОНХИАЛЬНОЙ АСТМ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42560" y="2361960"/>
            <a:ext cx="7777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спользование ингаляционных противоастматических препарато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рная схема выбора способа доставки лекарства в зависимости от возрас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лассы ингаляционных препарато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ипы ингаляционных устройст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авильное использование ДА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спользование небулайзер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спользование подходящих препарато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рошковые ингалято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нгалятор сухой пудры турбухале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искус (мультидиск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НЯТИЕ №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ИСПОЛЬЗОВАНИЕ ПОДХОДЯЩИХ ПРЕПАРА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619280" y="2361960"/>
            <a:ext cx="7129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аш лечащий доктор пропишет вам ингаляционный препарат, который подходит вам больше всег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имеете вопросы о прописанных ингаляционных препаратах или об их правильном применении, обязательно свяжитесь с врач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бы быть уверенным, что вы оптимально лечите вашу астму, следуйте инструкциям вашего врача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ОРОШКОВЫЕ ИНГАЛЯТОРЫ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58560" y="2361960"/>
            <a:ext cx="4825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ногие препараты для лечения бронхиальной астмы выпускаются в виде порошка-пуд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рошковые ингаляторы отличает то, что они "работают" на активном вдохе, т.е. препарат попадает к вам в легкие, только когда вы совершаете вдох. Воздушный поток во время вдоха увлекает за собой ингаляционную дозу препарата в виде пудры, и нажимать ни на что не нужно - все очень просто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48194" t="0" r="0" b="0"/>
          <a:stretch/>
        </p:blipFill>
        <p:spPr>
          <a:xfrm>
            <a:off x="6300720" y="2421000"/>
            <a:ext cx="2273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ИНГАЛЯТОР СУХОЙ ПУДРЫ ТУРБУХАЛЕР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18920" y="2361960"/>
            <a:ext cx="5257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урбухалер очень прост в использовании и в отличие от аэрозолей не требует координации вдоха с нажатием на баллонч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Уникальное дозирующее устройство очень точно отмеряет дозу препарата, и пациент может быть уверен, что вдыхает именно предписанное ему количество лекарств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64360" y="2565360"/>
            <a:ext cx="165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ИНГАЛЯТОР СУХОЙ ПУДРЫ ТУРБУХАЛЕР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2361960"/>
            <a:ext cx="785016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Как пользоваться турбухалеро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одвиньте защитный колпачок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ержите турбухалер вертикально. Поверните вращающуюся часть в одном направлении, а затем в противоположном до щелч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ыдохните в сторону. Не выдыхайте в мундштук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местите мундштук между зубами и плотно обхватите его губами. Затем сделайте глубокий интенсивный вдох и задержите дыхание на вдохе на 10 секунд. Подождите не менее 30 секунд перед следующей ингаля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кройте турбухалер защитным колпачко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ИСКУС ИЛИ МУЛЬТИДИС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640" y="242064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искус, или мультидиск, - последнее поколение порошковых ингалятор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следним изобретением является дискус, или мультидиск, - наиболее совершенный из семейства порошковых ингаляторов. Он компактный, его хватает на длительный срок, и он хорошо защищен от всевозможных воздействий; сопротивление на вдохе настолько низкое, что позволяет применять дискус у маленьких де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0262" t="33322" r="0" b="0"/>
          <a:stretch/>
        </p:blipFill>
        <p:spPr>
          <a:xfrm>
            <a:off x="5796000" y="3213000"/>
            <a:ext cx="3348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50240" y="1191600"/>
            <a:ext cx="7869960" cy="86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ИСПОЛЬЗОВАНИЕ ИНГАЛЯЦИОННЫХ ПРОТИВОАСТМАТИЧЕСКИХ ПРЕПАРАТО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2361960"/>
            <a:ext cx="3960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нгаляция - это самый эффективный способ доставки препаратов для лечения аст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Главное преимущество ингаляционных препаратов - это их прямая доставка в пораженную болезнью область (бронхи и бронхиолы) и меньшее количество побочных эффектов в сравнении с многими лекарствами, применяемыми через рот или в инъекциях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ИСПОЛЬЗОВАНИЕ ИНГАЛЯЦИОННЫХ ПРОТИВОАСТМАТИЧЕСКИХ ПРЕПАРАТ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560" y="2420640"/>
            <a:ext cx="788508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се современные способы ингаляционной доставки лекарств представлены следующими устройствами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дозированные ингаляторы (MDI-устройства) на основе фреон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спейсеры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порошковые ингаляторы (В0I-устройства) (ротахалеры, циклохалеры, турбохалеры, мультидиски и т.д.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ингаляторы "Легкое дыхание" (easy breathe inhaler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небулайзер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ИМЕРНАЯ СХЕМА ВЫБОРА СПОСОБА ДОСТАВКИ ЛЕКАРСТВА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В ЗАВИСИМОСТИ ОТ ВОЗРАСТ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58920" y="2421000"/>
          <a:ext cx="7561080" cy="3728880"/>
        </p:xfrm>
        <a:graphic>
          <a:graphicData uri="http://schemas.openxmlformats.org/drawingml/2006/table">
            <a:tbl>
              <a:tblPr/>
              <a:tblGrid>
                <a:gridCol w="2521080"/>
                <a:gridCol w="504000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зраст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тимальные способы доставки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ти 0 - 2 лет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булайзер; Дозированный аэрозоль с лицевой  маской (бэбихалер, аэрочэмбер)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ти 3 - 5 лет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зированный аэрозоль со спейсером; Небулайзер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ти 5 - 15 лет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рошковые ингаляторы; Дозированный аэрозоль со спейсером;   Дозированный аэрозоль «Легкое дыхание»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рослые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рошковые ингаляторы; Дозированный аэрозоль со спейсером;  Дозированный аэрозоль; Дозированный аэрозоль «Легкое дыхание»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жилые люди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рошковые ингаляторы; Дозированный аэрозоль со спейсером; Дозированный аэрозоль «Легкое дыхание»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ИПЫ ИНГАЛЯЦИОННЫХ УСТРОЙСТ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6920" y="2349360"/>
            <a:ext cx="7705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Существует 3 основных типа устройств, применяющихся для доставки ингаляционных препарат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1.  Самым распространенным из них является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дозирующий аэрозольный ингалятор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(ДАИ), в котором используется химический пропеллант для распыления лекарства из ингалятора. Небулайзеры доставляют лекарства в виде мелких капель тумана через маску, которая плотно подходит к носу и рту. Для работы небулайзера используется воздух или кислород под давлением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рошковые ингаляторы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были введены в клиническую практику для доставки антиастматических препаратов без использования пропеллант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3. Большинство аллергологов настоятельно рекомендуют использовать устройство, называющееся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"спейсер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", чтобы улучшить доставку ингаляционного препарата. Спейсеры помогают больным астмой вдохнуть большее количество лекарства непосредственно в нижние дыхательные пути, туда, где они и должны действовать, а не оседать в горле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40360" y="834120"/>
            <a:ext cx="8351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РАВИЛЬНОЕ ИСПОЛЬЗОВАНИЕ ДА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7280" y="2565000"/>
            <a:ext cx="381636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се дозирующие ингаляторы снабжены инструкциями, которым вы должны обязательно следова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45527" t="0" r="0" b="0"/>
          <a:stretch/>
        </p:blipFill>
        <p:spPr>
          <a:xfrm>
            <a:off x="6012000" y="2349360"/>
            <a:ext cx="21351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60760" y="581400"/>
            <a:ext cx="76384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РАВИЛЬНОЕ ИСПОЛЬЗОВАНИЕ ДОЗИРУЮЩИХ АЭРОЗОЛЬНЫХ ИНГАЛЯТОР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2361960"/>
            <a:ext cx="8101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ледующие инструкции применяются для многих ингалятор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Хорошо встряхните ингалятор перед каждым использованием, затем снимите колпачок с мундштука. Если колпачка нет, то проверьте открытый мундштук на наличие посторонних предметов. Не забывайте это делать перед каждым использование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ледите за количеством сделанных ингаляций. Некоторые производители включают табличку использования препарата в свои руководства по применению ингалятора для пациентов. Существуют также устройства, которые прикрепляются к ингалятору и позволяют пациенту отслеживать количество произведенных ингаляц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Если вы не пользовались ингалятором в течение месяца и более, то первоначально перед использованием сделайте пробное распыление в воздух. В дальнейшем при регулярном применении этого не надо делать каждый раз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ыдохните через рот как можно сильне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местите ингалятор на расстояние 2,5 или 5 сантиметров от открытого рта (техника открытого рта)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РАВИЛЬНОЕ ИСПОЛЬЗОВАНИЕ ДОЗИРУЮЩИХ АЭРОЗОЛЬНЫХ ИНГАЛЯТОР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репко нажмите на вершину металлического баллончика вашим указательным пальцем, одновременно сделайте глубокий и медленный вдох через ро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старайтесь продолжить вдох как можно глубже и задержать ваше дыхание на высоте вдоха на 5 - 10 секунд, это позволяет увеличить эффективность ингаляции. Затем выдохните и продолжайте дышать обычн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дождите 30 - 60 секунд и встряхните ингалятор снова. Повторите эти шаги для каждой ингаляции столько раз, сколько прописано вашим докторо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мещайте на место предохранительный колпачок после каждого использования, мойте ингалятор тщательно и част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ИСПОЛЬЗОВАНИЕ НЕБУЛАЙЗЕ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2349360"/>
            <a:ext cx="4968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булайзеры эффективно доставляют противоастматические препараты в виде мелкого тумана через мундштуки, маски различного размера (детские и взрослые). Использование распыляемых при помощи небулайзера противоастматических препаратов особенно полезно у младенцев, детей младшего возраста и некоторых пожилых пациентов, которые не в состоянии применять ДА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Напоминаем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 необходимости получить надлежащую инструкцию по использованию вашего небулайзера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2997360"/>
            <a:ext cx="2535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5T07:40:25Z</dcterms:modified>
  <cp:revision>17</cp:revision>
  <dc:subject/>
  <dc:title>PowerPoint Presentation</dc:title>
</cp:coreProperties>
</file>