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529-6535-4825-A7FF-A8B37F8F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357-DEE4-4678-B60F-FB993AF4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37C-5CCE-41CF-9CF3-CB8DE14D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5B6-028E-4D84-A09C-AB29B58C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1DB2-647E-4E96-B1C0-2FF63927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F88D-0507-4199-B360-5E36A2C3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BB47-D154-4D09-AC52-7B691BDB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3BDC-294A-457A-B488-68FC8167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5A99-3F99-483B-A690-B06488C1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D377-EFDB-4B09-916D-4ED21AB5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6FE7-1F26-4C13-9D35-728D0F6F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24C-8B37-4E88-A7CC-1F982F2C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D923-3F16-42A6-91A0-7EDBB4E2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FA8B-95E9-46CA-A339-9338FC5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6DAF-34E2-4EC0-9080-E9165F24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C549-AAD5-40AF-8EE4-1CDAB17F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F0B0-E2DB-49DD-A493-D0B9224B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D93-FE24-47BC-B3F6-1654E73E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F5F-0A5A-456A-8298-BEB2DC1E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BC8-C556-43AA-ACED-A8A4A126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4F7-13BE-41F9-8609-F973D051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EA5-DE50-41C4-ABBA-981B31AE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750-98A4-414C-96A5-A94CA9CE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28B-5285-4614-8CD5-DEAFF5B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5D73-7101-41AF-AD54-A2138D6129F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C198-493E-4AD3-AE38-FBF3FFDF00F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МЕТОДИКА МАССАЖА И ЗАКАЛИВАНИЯ ПРИ БРОНХИАЛЬНОЙ АСТМЕ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ассаж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ассаж лиц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ассаж грудной клет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кали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189000"/>
            <a:ext cx="57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НЯТИЕ №8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ГРУДНОЙ КЛЕТ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Растирание «Враздрай». Правая ладонь на правой лопатке массируемого, левая ладонь – на пояснице слева. Выполняется ладонями резкими встречными движениями продольно по всей спине. Темп до 120 движений в минуту. Продолжительность 30 с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ГРУДНОЙ КЛЕТ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140360" y="2361960"/>
            <a:ext cx="4752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«Лопатки-руки». Вращательными движениями массируется кожа на лопатках. Темп 100 движений в минуту. Продолжительность до 30 с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3645000"/>
            <a:ext cx="3024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ГРУДНОЙ КЛЕТ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8066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V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«Живот-грудь». Под животом у бедер пальцами (движением вверх-вперед) с силой скользят по животу и бокам, затем по груди. Повторяют до 5-6 раз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ГРУДНОЙ КЛЕТ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«Плечо-шея». Выполняется поглаживающими движениями больших пальцев от плеча,  к шее и в обратном порядке. Выполняется на правой и левой стороне по 15 с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ГРУДНОЙ КЛЕТ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920" y="2361960"/>
            <a:ext cx="46087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I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«Растирание перекрестно». Выполняется вращательными движениями ладоней навстречу друг другу (исходное положение: правая рука на правой лопатке, левая рука на пояснице слева). Продолжительность до 30 се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508720" y="4005360"/>
            <a:ext cx="3456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ГРУДНОЙ КЛЕТ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766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II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«Похлопывание». Выполняется на противоположной от массажиста стороне    грудной клетки ладонями, сложенными «лодочкой». Продолжительность до 1 мин. Движения быстрое до 100 движений в мин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ГРУДНОЙ КЛЕТ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106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III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«Рубление». Выполняется на противоположной от массажиста стороне грудной клетки  (сверху и сбоку) краями кистей. Пальцы при этом разведены и расслаблены. Ладони обращены друг к другу, движения очень быстрые (до 150 в мин.). Продолжительность до 30 сек в каждой сторон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ГРУДНОЙ КЛЕТ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16000" y="2362320"/>
            <a:ext cx="77040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X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«Покалачивание». Выполняется на противоположной стороне от массажиста полураскрытыми кулаками. Движения вверх-вниз. Продолжительность 1 мин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ГРУДНОЙ КЛЕТ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«Вибрация». Пальцы исходно в межреберных промежутках. Сохраняя давление производят вибрирующие движения, не отрывая пальцев. Вибрацию производят по протяженности межреберных промежут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ГРУДНОЙ КЛЕТ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I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«Выкручивание кожи в межлопаточной области спины». Захватывают кожу большими и указательными пальцами по линии нижних углов лопатки. Кожа оттягивается в стороны - вверх  до образования наиболее высокого валика. Затем движение повторяют на уровне середины лопатки и уровне верхних уг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16360" y="5373720"/>
            <a:ext cx="40006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ассаж известен с глубокой древности. В основе механизма действия массажа лежат сложные механизмы взаимодействия – рефлексогенные, нейрогуморальные, обменные и другие процессы, которые регулируются нервной системо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12543" r="0" b="12471"/>
          <a:stretch/>
        </p:blipFill>
        <p:spPr>
          <a:xfrm>
            <a:off x="468360" y="189000"/>
            <a:ext cx="2303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ГРУДНОЙ КЛЕТ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356000" y="2361960"/>
            <a:ext cx="4608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XII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«Поглаживание». Проводится по всей поверхности спин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2953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ЗАКАЛИ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4537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Закаливание – это тренировка физиологических механизмов адаптации путем систематического, периодически повторяющегося с возрастающей интенсивностью раздражения кожных покровов.  Вода с температурой ниже 23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º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 оказывает раздражающее действие, на что организм отвечает изменением интенсивности процессов терморегуляции и физиологических механизмов адаптаци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5103" t="1181" r="3934" b="4339"/>
          <a:stretch/>
        </p:blipFill>
        <p:spPr>
          <a:xfrm>
            <a:off x="5219640" y="2637000"/>
            <a:ext cx="36003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ЗАКАЛИ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42560" y="2361960"/>
            <a:ext cx="50418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ля больных хроническим бронхитом и бронхиальной астмой действенных комплексов и программ закаливания нет. Переход к принятию холодных водных процедур является произвольным. Необходимо предупредить больных о том, что в первые 3 месяца занятий возможны обострения БА, поэтому в начале занятий по программе физической реабилитации отменять или уменьшать объем поддерживающей терапии не следует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00720" y="2492280"/>
            <a:ext cx="2664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ЛИЦ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оздействие на крылья носа и кожу верхней челюсти ниже переносицы. Массаж выполняется поверхностью согнутых первых пальцев. Совершаются колебательные движения с частотой 100-120 движений в минут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2708280"/>
            <a:ext cx="345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ЛИЦ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торым приемом массажа лица является «пневмомассаж»,  движения такие как на приеме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но требуется плотно зажимать ноздри (медиальными поверхностями ногтевых фалангов больших пальцев). Вдох делается ртом, выдох – сильно носом. В ходе одного вдоха необходимо промассировать высоким давлением воздуха придаточные пазухи носа. Повторять 3-5 раз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ЛИЦ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7419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Массаж кожи лба под глазами. Массаж выполняется ладонной поверхностью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V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пальцев обеих рук круговыми движениями в  быстром темпе от спинки носа к углу р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280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ЛИЦ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V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Массаж кожи лба.  Массаж  проводится подушечками пястно-фаланговых суставов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II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V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пальцев круговыми движениями от середины лба к вискам. Повторяют 10-15 раз до появления у массируемого ощущения тепл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84720" y="2349360"/>
            <a:ext cx="2808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ЛИЦ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2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астирание кожи лба вращением ладоней по периметру лба (левой руки с права налево, правой – слева на право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0160"/>
          <a:stretch/>
        </p:blipFill>
        <p:spPr>
          <a:xfrm>
            <a:off x="5724360" y="3716280"/>
            <a:ext cx="32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ЛИЦ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284720" y="2421000"/>
            <a:ext cx="44164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I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астирание  тыльными сторонами ладони нижней челюсти у подбородка. Повторяют 10-15 раз до ощущения тепл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29512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АССАЖ ГРУДНОЙ КЛЕТ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5342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ем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«Поглаживание». Выполняется ладонями и расставленными врозь пальцами обеих рук от плеча к бедрам и от бедра к плечам тыльной стороны кисти. Темп до 120 движений в минуту. Продолжительность до 30 с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43640" y="3573360"/>
            <a:ext cx="27003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25T07:43:39Z</dcterms:modified>
  <cp:revision>11</cp:revision>
  <dc:subject/>
  <dc:title>PowerPoint Presentation</dc:title>
</cp:coreProperties>
</file>