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2BDC2-9C5B-42F3-8596-DF07CB7A1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F6C28-5B4A-418C-90DE-CD28DAA4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AF10D-2ADA-4251-8D18-06A207CE6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1FF90-FC7F-47AC-8F4C-C4B03D31E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624F0-F38E-40EA-AFFB-38B04588E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03FB2-DBDA-470B-B140-0F1F9F173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7627E-C146-4138-9EEC-638568254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49FB9-4037-47D8-B1B1-AB5F5B018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E1CFE-64F3-494A-B581-DAEC91C8A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C06F7-B6B6-4784-9938-9E8F31F13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2D0CF-D927-4E95-99A5-51C7D4391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40EFC-2F2C-4D39-8294-24116411E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69DE1-F78E-4717-B504-38E0FF3C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B877-D7EA-4B84-B808-588797E21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7AB3A-E6A7-48B1-9CFB-151386DC6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E691C-2402-406A-BD5B-23DEA03F0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B14F6-B252-4BAE-A035-7CBBC98C6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D5ED-929C-456F-A420-5BFB88764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1CDD4-57DC-453F-81EE-1165EB8C7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3EC8B-82F0-453D-A315-D5D09B825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F9A0-015D-4DD5-A895-48447579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D7637-F5DC-437F-8E2F-7F750D743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6B8D-4F89-46B5-98DB-E969076BF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5D0D-89AF-4A1C-BE37-7DB1C7232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0DFD-6EBB-4EE2-BCD0-295D019F745A}"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0639-02CB-4682-95CB-F9B88B56271D}"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ЧТО НАДО ЗНАТЬ О БРОНХИАЛЬНОЙ АСТМЕ?</a:t>
            </a:r>
            <a:endParaRPr b="1" lang="en-US" sz="3200" spc="-1" strike="noStrike">
              <a:solidFill>
                <a:srgbClr val="006666"/>
              </a:solidFill>
              <a:latin typeface="Arial"/>
            </a:endParaRPr>
          </a:p>
        </p:txBody>
      </p:sp>
      <p:sp>
        <p:nvSpPr>
          <p:cNvPr id="95" name="PlaceHolder 1"/>
          <p:cNvSpPr>
            <a:spLocks noGrp="1"/>
          </p:cNvSpPr>
          <p:nvPr>
            <p:ph/>
          </p:nvPr>
        </p:nvSpPr>
        <p:spPr>
          <a:xfrm>
            <a:off x="838080" y="2276280"/>
            <a:ext cx="8305920" cy="3724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Что такое бронхиальная астма?</a:t>
            </a:r>
            <a:endParaRPr b="0" lang="en-US" sz="2800" spc="-1" strike="noStrike">
              <a:solidFill>
                <a:srgbClr val="003366"/>
              </a:solidFill>
              <a:latin typeface="Arial"/>
            </a:endParaRPr>
          </a:p>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Как устроены дыхательные пути?</a:t>
            </a:r>
            <a:endParaRPr b="0" lang="en-US" sz="2800" spc="-1" strike="noStrike">
              <a:solidFill>
                <a:srgbClr val="003366"/>
              </a:solidFill>
              <a:latin typeface="Arial"/>
            </a:endParaRPr>
          </a:p>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Каковы причины возникновения бронхиальной астмы?</a:t>
            </a:r>
            <a:endParaRPr b="0" lang="en-US" sz="2800" spc="-1" strike="noStrike">
              <a:solidFill>
                <a:srgbClr val="003366"/>
              </a:solidFill>
              <a:latin typeface="Arial"/>
            </a:endParaRPr>
          </a:p>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Течение бронхиальной астмы, клинические проявления.</a:t>
            </a:r>
            <a:endParaRPr b="0" lang="en-US" sz="2800" spc="-1" strike="noStrike">
              <a:solidFill>
                <a:srgbClr val="003366"/>
              </a:solidFill>
              <a:latin typeface="Arial"/>
            </a:endParaRPr>
          </a:p>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Как протекает приступ бронхиальной астмы?</a:t>
            </a:r>
            <a:endParaRPr b="0" lang="en-US" sz="2800" spc="-1" strike="noStrike">
              <a:solidFill>
                <a:srgbClr val="003366"/>
              </a:solidFill>
              <a:latin typeface="Arial"/>
            </a:endParaRPr>
          </a:p>
          <a:p>
            <a:pPr marL="335880" indent="-3358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оследствия аллергического воспаления в бронхах.</a:t>
            </a:r>
            <a:endParaRPr b="0" lang="en-US" sz="28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лан действий больного.</a:t>
            </a:r>
            <a:r>
              <a:rPr b="0" lang="ru-RU" sz="2000" spc="-1" strike="noStrike">
                <a:solidFill>
                  <a:srgbClr val="003366"/>
                </a:solidFill>
                <a:latin typeface="Arial"/>
              </a:rPr>
              <a:t> </a:t>
            </a:r>
            <a:endParaRPr b="0" lang="en-US" sz="2000" spc="-1" strike="noStrike">
              <a:solidFill>
                <a:srgbClr val="003366"/>
              </a:solidFill>
              <a:latin typeface="Arial"/>
            </a:endParaRPr>
          </a:p>
        </p:txBody>
      </p:sp>
      <p:sp>
        <p:nvSpPr>
          <p:cNvPr id="96" name=""/>
          <p:cNvSpPr/>
          <p:nvPr/>
        </p:nvSpPr>
        <p:spPr>
          <a:xfrm>
            <a:off x="1835280" y="189000"/>
            <a:ext cx="594036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
          <p:cNvSpPr/>
          <p:nvPr/>
        </p:nvSpPr>
        <p:spPr>
          <a:xfrm>
            <a:off x="2319480" y="144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8" name=""/>
          <p:cNvSpPr/>
          <p:nvPr/>
        </p:nvSpPr>
        <p:spPr>
          <a:xfrm>
            <a:off x="1908000" y="0"/>
            <a:ext cx="633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ЗАНЯТИЕ №1</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ОСЛЕДСТВИЯ АЛЛЕРГИЧЕСКОГО ВОСПАЛЕНИЯ В БРОНХАХ</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Длительное воспаление в бронхах ведет к изменению их нормальной структуры. Мышечная оболочка утолщается (гипертрофируется); эпителий бронхов страдает от постоянного воспаления, и его клетки погибают. Так как воздух не может спокойно выходить из альвеол, последние расширяются, что ведет к повышению воздушности легочной ткани - эмфиземе.</a:t>
            </a:r>
            <a:r>
              <a:rPr b="0" lang="ru-RU" sz="2000" spc="-1" strike="noStrike">
                <a:solidFill>
                  <a:srgbClr val="003366"/>
                </a:solidFill>
                <a:latin typeface="Arial"/>
              </a:rPr>
              <a:t> </a:t>
            </a:r>
            <a:endParaRPr b="0" lang="en-US" sz="2000" spc="-1" strike="noStrike">
              <a:solidFill>
                <a:srgbClr val="003366"/>
              </a:solidFill>
              <a:latin typeface="Arial"/>
            </a:endParaRPr>
          </a:p>
        </p:txBody>
      </p:sp>
      <p:pic>
        <p:nvPicPr>
          <p:cNvPr id="118"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ПРИЗНАКИ ОБОСТРЕНИЯ АСТМЫ:</a:t>
            </a:r>
            <a:r>
              <a:rPr b="1" lang="ru-RU" sz="3600" spc="-1" strike="noStrike">
                <a:solidFill>
                  <a:srgbClr val="006666"/>
                </a:solidFill>
                <a:latin typeface="Arial"/>
              </a:rPr>
              <a:t> </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усиление кашля, тяжесть в грудной клетке, свистящее дыхание или затруднение дыхания, особенно ночью;</a:t>
            </a:r>
            <a:endParaRPr b="0" lang="en-US" sz="2800" spc="-1" strike="noStrike">
              <a:solidFill>
                <a:srgbClr val="003366"/>
              </a:solidFill>
              <a:latin typeface="Arial"/>
            </a:endParaRPr>
          </a:p>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необходимо большее количество противоастматических медикаментов, чем обычно; или лекарства не помогают как обычно;</a:t>
            </a:r>
            <a:endParaRPr b="0" lang="en-US" sz="2800" spc="-1" strike="noStrike">
              <a:solidFill>
                <a:srgbClr val="003366"/>
              </a:solidFill>
              <a:latin typeface="Arial"/>
            </a:endParaRPr>
          </a:p>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оказатели пиковой скорости выдоха ниже Ваших лучших значений, несмотря на увеличение противоастматической терапии.</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ЧТО ВЫ ДОЛЖНЫ СДЕЛАТЬ НЕМЕДЛЕННО!</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1_________________________________</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2_________________________________</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3_________________________________</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озвоните в "Скорую помощь". Скажите "Тяжелый приступ удушья". Сообщите свой адрес.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 УСТРОЕНЫ ДЫХАТЕЛЬНЫЕ ПУТИ?</a:t>
            </a:r>
            <a:endParaRPr b="1" lang="en-US" sz="3200" spc="-1" strike="noStrike">
              <a:solidFill>
                <a:srgbClr val="006666"/>
              </a:solidFill>
              <a:latin typeface="Arial"/>
            </a:endParaRPr>
          </a:p>
        </p:txBody>
      </p:sp>
      <p:pic>
        <p:nvPicPr>
          <p:cNvPr id="100" name="" descr=""/>
          <p:cNvPicPr/>
          <p:nvPr/>
        </p:nvPicPr>
        <p:blipFill>
          <a:blip r:embed="rId1"/>
          <a:stretch/>
        </p:blipFill>
        <p:spPr>
          <a:xfrm>
            <a:off x="1692360" y="1882800"/>
            <a:ext cx="6659640" cy="497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ОВЫ ПРИЧИНЫ ВОЗНИКНОВЕНИЯ БРОНХИАЛЬНОЙ АСТМЫ?</a:t>
            </a:r>
            <a:endParaRPr b="1" lang="en-US" sz="3200" spc="-1" strike="noStrike">
              <a:solidFill>
                <a:srgbClr val="006666"/>
              </a:solidFill>
              <a:latin typeface="Arial"/>
            </a:endParaRPr>
          </a:p>
        </p:txBody>
      </p:sp>
      <p:sp>
        <p:nvSpPr>
          <p:cNvPr id="102" name="PlaceHolder 1"/>
          <p:cNvSpPr>
            <a:spLocks noGrp="1"/>
          </p:cNvSpPr>
          <p:nvPr>
            <p:ph/>
          </p:nvPr>
        </p:nvSpPr>
        <p:spPr>
          <a:xfrm>
            <a:off x="826560" y="2349360"/>
            <a:ext cx="7587000" cy="372456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1" lang="ru-RU" sz="2800" spc="-1" strike="noStrike">
                <a:solidFill>
                  <a:srgbClr val="003366"/>
                </a:solidFill>
                <a:latin typeface="Times New Roman"/>
              </a:rPr>
              <a:t>Имеются три группы причин: </a:t>
            </a:r>
            <a:endParaRPr b="0" lang="en-US" sz="2800" spc="-1" strike="noStrike">
              <a:solidFill>
                <a:srgbClr val="003366"/>
              </a:solidFill>
              <a:latin typeface="Arial"/>
            </a:endParaRPr>
          </a:p>
          <a:p>
            <a:pPr marL="312120" indent="-31212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 первая группа - это факторы, предрасполагающие к развитию заболевания, - определенная наследственность и факторы окружающей среды; </a:t>
            </a:r>
            <a:endParaRPr b="0" lang="en-US" sz="2800" spc="-1" strike="noStrike">
              <a:solidFill>
                <a:srgbClr val="003366"/>
              </a:solidFill>
              <a:latin typeface="Arial"/>
            </a:endParaRPr>
          </a:p>
          <a:p>
            <a:pPr marL="312120" indent="-31212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 вторая группа - это аллергены, являющиеся причиной аллергического воспаления в бронхах, они же поддерживают это воспаление; </a:t>
            </a:r>
            <a:endParaRPr b="0" lang="en-US" sz="2800" spc="-1" strike="noStrike">
              <a:solidFill>
                <a:srgbClr val="003366"/>
              </a:solidFill>
              <a:latin typeface="Arial"/>
            </a:endParaRPr>
          </a:p>
          <a:p>
            <a:pPr marL="312120" indent="-3121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 </a:t>
            </a:r>
            <a:r>
              <a:rPr b="0" lang="ru-RU" sz="2800" spc="-1" strike="noStrike">
                <a:solidFill>
                  <a:srgbClr val="003366"/>
                </a:solidFill>
                <a:latin typeface="Times New Roman"/>
              </a:rPr>
              <a:t>- третья группа - это факторы, способные вызвать приступ удушья или обострение астмы, - они носят название триггеров.</a:t>
            </a:r>
            <a:r>
              <a:rPr b="0" lang="ru-RU" sz="2000" spc="-1" strike="noStrike">
                <a:solidFill>
                  <a:srgbClr val="003366"/>
                </a:solidFill>
                <a:latin typeface="Times New Roman"/>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ТЕЧЕНИЕ БРОНХИАЛЬНОЙ АСТМЫ, КЛИНИЧЕСКИЕ ПРОЯВЛЕНИЯ</a:t>
            </a:r>
            <a:endParaRPr b="1" lang="en-US" sz="3200" spc="-1" strike="noStrike">
              <a:solidFill>
                <a:srgbClr val="006666"/>
              </a:solidFill>
              <a:latin typeface="Arial"/>
            </a:endParaRPr>
          </a:p>
        </p:txBody>
      </p:sp>
      <p:sp>
        <p:nvSpPr>
          <p:cNvPr id="104" name="PlaceHolder 1"/>
          <p:cNvSpPr>
            <a:spLocks noGrp="1"/>
          </p:cNvSpPr>
          <p:nvPr>
            <p:ph/>
          </p:nvPr>
        </p:nvSpPr>
        <p:spPr>
          <a:xfrm>
            <a:off x="826920" y="2276280"/>
            <a:ext cx="762192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800" spc="-1" strike="noStrike">
                <a:solidFill>
                  <a:srgbClr val="003366"/>
                </a:solidFill>
                <a:latin typeface="Times New Roman"/>
              </a:rPr>
              <a:t>У больного бронхиальной астмой – защитная реакция развивается при попадании тех частиц, которыми мы дышим в обычных условиях каждый день. Со временем начинает прогрессировать воспалительный процесс. Симптомы заболевания возникают чаще, протекают тяжелее и практически не поддаются лечению бронхорасширяющими препаратами. Виновниками являются клетки – эозинофилы и другие, которые находятся в стенке бронхов.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611640" y="837000"/>
            <a:ext cx="835164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ГРУППЫ РИСКА, </a:t>
            </a:r>
            <a:br>
              <a:rPr sz="3200"/>
            </a:br>
            <a:r>
              <a:rPr b="1" lang="ru-RU" sz="3200" spc="-1" strike="noStrike">
                <a:solidFill>
                  <a:srgbClr val="006666"/>
                </a:solidFill>
                <a:latin typeface="Times New Roman"/>
              </a:rPr>
              <a:t>НАИБОЛЕЕ ПОДВЕРЖЕННЫЕ БРОНХИАЛЬНОЙ АСТМЕ:</a:t>
            </a:r>
            <a:endParaRPr b="1" lang="en-US" sz="3200" spc="-1" strike="noStrike">
              <a:solidFill>
                <a:srgbClr val="006666"/>
              </a:solidFill>
              <a:latin typeface="Arial"/>
            </a:endParaRPr>
          </a:p>
        </p:txBody>
      </p:sp>
      <p:sp>
        <p:nvSpPr>
          <p:cNvPr id="106" name="PlaceHolder 1"/>
          <p:cNvSpPr>
            <a:spLocks noGrp="1"/>
          </p:cNvSpPr>
          <p:nvPr>
            <p:ph/>
          </p:nvPr>
        </p:nvSpPr>
        <p:spPr>
          <a:xfrm>
            <a:off x="826560" y="2349360"/>
            <a:ext cx="8317080" cy="37245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детский юношеский возраст;</a:t>
            </a:r>
            <a:endParaRPr b="0" lang="en-US" sz="2800" spc="-1" strike="noStrike">
              <a:solidFill>
                <a:srgbClr val="003366"/>
              </a:solidFill>
              <a:latin typeface="Arial"/>
            </a:endParaRPr>
          </a:p>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лица, часто страдающие ОРВИ (заболевают в 18 раз чаще);</a:t>
            </a:r>
            <a:endParaRPr b="0" lang="en-US" sz="2800" spc="-1" strike="noStrike">
              <a:solidFill>
                <a:srgbClr val="003366"/>
              </a:solidFill>
              <a:latin typeface="Arial"/>
            </a:endParaRPr>
          </a:p>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больные хроническим бронхитом, хроническим насморком, полипами носа;</a:t>
            </a:r>
            <a:endParaRPr b="0" lang="en-US" sz="2800" spc="-1" strike="noStrike">
              <a:solidFill>
                <a:srgbClr val="003366"/>
              </a:solidFill>
              <a:latin typeface="Arial"/>
            </a:endParaRPr>
          </a:p>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лица, работающие во вредных условиях (пыль растительная, животная) с антибиотиками, пластмассой, стиральным порошком;</a:t>
            </a:r>
            <a:endParaRPr b="0" lang="en-US" sz="2800" spc="-1" strike="noStrike">
              <a:solidFill>
                <a:srgbClr val="003366"/>
              </a:solidFill>
              <a:latin typeface="Arial"/>
            </a:endParaRPr>
          </a:p>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страдающие диатезом, поллинозом;</a:t>
            </a:r>
            <a:endParaRPr b="0" lang="en-US" sz="2800" spc="-1" strike="noStrike">
              <a:solidFill>
                <a:srgbClr val="003366"/>
              </a:solidFill>
              <a:latin typeface="Arial"/>
            </a:endParaRPr>
          </a:p>
          <a:p>
            <a:pPr marL="298440" indent="-29844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люди, имеющие наследственную предрасположенность заболевания.</a:t>
            </a:r>
            <a:endParaRPr b="0" lang="en-US" sz="2800" spc="-1" strike="noStrike">
              <a:solidFill>
                <a:srgbClr val="003366"/>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 ПРОТЕКАЕТ ПРИСТУП БРОНХИАЛЬНОЙ АСТМЫ?</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Типичный приступ бронхиальной астмы заключается в быстром возникновении затрудненного дыхания, при котором сильно затруднен выдох, или по-другому это называется удушье, могут быть, слышны свистящие хрипы. Приступ может сопровождаться чувством испуга, потливостью, слабостью. Очень плохо сказывается на состоянии больного в этот момент «дыхательная паника»: попытки человека дышать, как можно интенсивнее еще больше затрудняют прохождение воздуха по бронхам.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 УСТАНАВЛИВАЮТ ДИАГНОЗ БРОНХИАЛЬНОЙ АСТМЫ?</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Times New Roman"/>
              </a:rPr>
              <a:t>Полноценное обследование больного, особенно при первичном обращении, включает общие клинические анализы (в том числе мокроты), рентгенографию грудной клетки, определение возможных аллергенов (для этого может понадобиться консультация аллерголога или иммунолога), проведение суточной пикфлоуметрии.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ОВЫ ПРИНЦИПЫ ЛЕЧЕНИЯ БРОНХИАЛЬНОЙ АСТМЫ?</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Своевременное и правильное лечение инфекционных процессов (ОРВИ), протекающих с поражением дыхательных пут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Одна из важных первоочередных мер во время приступа бронхиальной астмы – устранение «дыхательной паник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 случае развития приступа удушья или перед предполагаемой физической нагрузкой – необходимы ингаляции из дозирующего баллончика быстродействующих бронхорасширяющих средств, назначаемых врачом.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imes New Roman"/>
              </a:rPr>
              <a:t>В случае развития тяжелого приступа бронхиальной астмы, который не снимают ингаляции быстродействующего бронхорасширяющего средства, необходимо не откладывая, обратиться за медицинской помощью. Такой приступ может перерасти в угрожающее жизни состояние – астматический статус.</a:t>
            </a:r>
            <a:r>
              <a:rPr b="1" lang="ru-RU" sz="2000" spc="-1" strike="noStrike">
                <a:solidFill>
                  <a:srgbClr val="003366"/>
                </a:solidFill>
                <a:latin typeface="Times New Roman"/>
              </a:rPr>
              <a:t>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10760" y="848880"/>
            <a:ext cx="8467200" cy="11980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Times New Roman"/>
              </a:rPr>
              <a:t>КАКИЕ ВИДЫ ИНГАЛЯЦИЙ ИСПОЛЬЗУЮТСЯ ПРИ БРОНХИАЛЬНОЙ АСТМЕ?</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озирующие баллончики для ингаляций, в которых действующее вещество представлено в виде аэрозол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Нужным и эффективным следует признать применение спейсеров для осуществления ингаляции жидких препаратов из дозирующих баллончиков.</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ля использования растворов используют небулайзеры (аппараты компрессорного типа, подающие струю воздуха и ультразвуковые ингаляторы), которые создают мельчайшие (меньше чем при использовании баллончиков) частички лекарств (в виде пара), благодаря чему лекарство доставляется в более мелкие бронхи.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уществуют порошкообразные средства для лечения бронхиальной астмы, порошковые частички тоже очень маленькие и обеспечивают хорошую доставку лекарства до мелких бронхов.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2-10-25T07:35:38Z</dcterms:modified>
  <cp:revision>14</cp:revision>
  <dc:subject/>
  <dc:title>PowerPoint Presentation</dc:title>
</cp:coreProperties>
</file>