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CEF-53DC-4F87-BF87-8F507430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F14-FC62-460E-9FAF-5DD3EDE9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032-7A77-419E-9FF3-B0AC2870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6B7-C8A3-496A-BB0A-257FF625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D6D1-67E3-42AC-9895-68EEA4BC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6EFE-E56D-492B-B1C3-42BD333B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0CF8-AC22-45BD-9688-2A807CBA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31F6-BDE4-4FEF-B38D-26802245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8B66-5CF3-4A3B-82B9-BF503754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6504-A077-4A23-8462-96E31F74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388C-1D2D-4EE7-A3D0-C12AA21C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DED-9B01-4DE9-ADD5-B7715A2C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CB71-87BB-4E29-8B11-449846B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0982-1525-4C1B-BC45-1B50590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9B9A-1653-423A-981A-B644502B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C830-2058-4EBB-B9BC-F6DC5E93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A808-F63C-4CC0-8EB7-53F704D4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7A4-DF89-4050-AAE5-42B0891A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6B2-38AA-4E31-BA0F-9DED8806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A83-8E95-488C-BB70-0283F91E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910-C6AE-4085-A8AF-13D629EF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12E-5C1C-470B-A7E7-8417EC9E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4E4-9AFA-4A53-BB49-0D68902D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B54-4D88-4B99-B8BA-BD9A8BC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1210-679F-4265-8738-1CBAC4D8952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BD58-A276-4180-891F-966462DDD9A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ФИЗИЧЕСКАЯ АКТИВНОСТЬ ПРИ БРОНХИАЛЬНОЙ АСТМ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орьба с гиподинами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ациональная дыхательная гимнас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ренажер дыхательный индивидуальн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ехника проведения диафраграмального дых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ичины обращения за медицинской помощью при физических нагрузк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НЯТИЕ №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УПРАЖНЕНИЕ «НАСОС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Рисунок 7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69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УПРАЖНЕНИЕ «КОШК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86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Исходное положение: станьте прямо, ноги чуть уже ширины плеч (ступни ног в упражнении не должны отрываться от пола). Сделайте танцевальное приседание и одновременно поворот туловища вправо - резкий, короткий вдох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Затем такое же приседание с поворотом влево и тоже короткий, шумный вдох носом. Вправо - влево, вдох справа - вдох слева. Выдохи происходят между вдохами сами, непроизвольно. Колени слегка сгибайте и выпрямляйте (приседание легкое, пружинистое, глубоко не приседать). Руками делайте хватательные движения справа и слева на уровне пояса. Спина абсолютно прямая, поворот - только в тали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Норма: 12 раз по 8 вдохов-движений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Упражнение "Кошка" можно делать также сидя на стуле и лежа в постели (в тяжелом состоянии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Рисунок 10" descr=""/>
          <p:cNvPicPr/>
          <p:nvPr/>
        </p:nvPicPr>
        <p:blipFill>
          <a:blip r:embed="rId1"/>
          <a:stretch/>
        </p:blipFill>
        <p:spPr>
          <a:xfrm>
            <a:off x="5921280" y="3068640"/>
            <a:ext cx="268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УПРАЖНЕНИЕ «ОБНИМИ ПЛЕЧ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Рисунок 13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264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УПРАЖНЕ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«БОЛЬШОЙ МАЯТНИК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Исходное положение: станьте прямо, ноги чуть уже ширины плеч. Наклон вперед, руки тянутся к полу - вдох. И сразу без остановки (слегка прогнувшись в пояснице) наклон назад - руки обнимают плечи. И тоже вдох. Кланяйтесь вперед - откидывайтесь назад, вдох "с пола" - вдох "с потолка". Выдох происходит в промежутке между вдохами сам, не задерживайте и не выталкивайте выдох!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Норма: 12 раз по 8 вдохов-движений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Упражнение "Большой маятник" можно делать также сид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Ограничения: при остеохондрозе, травмах позвоночника и смещениях межпозвонковых дисков упражнение "Большой маятник" делайте, ограничивая движения: слегка кланяясь вперед и почти не прогибаясь при наклоне назад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Только хорошо освоив первые шесть упражнений комплекса, можно переходить к остальным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Добавляйте каждый день по одному упражнению из второй половины комплекса, пока не освоите все основные упражнени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Рисунок 16" descr=""/>
          <p:cNvPicPr/>
          <p:nvPr/>
        </p:nvPicPr>
        <p:blipFill>
          <a:blip r:embed="rId1"/>
          <a:stretch/>
        </p:blipFill>
        <p:spPr>
          <a:xfrm>
            <a:off x="6659640" y="3429000"/>
            <a:ext cx="17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ТРЕНАЖЕР ДЫХАТЕЛЬНЫЙ ИНДИВИДУАЛЬНЫ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862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едназначен для дыхательных тренировок с целью профилактики и лечения различных заболеваний, повышенных иммунитетных и адаптационных возможностей организма, реабилитации и восстановления при неблагоприятных (включая радиацию) экологических и производственных факторах, стресс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3457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ТЕХНИКА ПРОВЕДЕНИЯ ДИАФРАГМАЛЬНОГО ДЫХ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омплекс упражнений на напряжения и расслабл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лительность 5-7 минут 2 раза в ден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Цель научить умению расслабляться сохранять спокойствие во время приступа аст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ыполняется сидя на стуле или лежа на пол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1 Руки лежат на коленях или располагаются вдоль тел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2 Закрыть глаза и опустить подбородок на груд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 Поочередно напрягают мышцы шеи, лица, плеч, предплечь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4 Каждый раз после напряжения следует полное расслабление, которое сопровождается воображением пребывания в наиболее красивом и приятном мес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7280" y="908640"/>
            <a:ext cx="83530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РИЧИНЫ ОБРАЩЕНИ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ЗА МЕДИЦИНСКОЙ ПОМОЩЬЮ ПРИ ФИЗИЧЕСКИХ НАГРУЗК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49360"/>
            <a:ext cx="83059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Хрипы учащаются, несмотря на то, что принято лекарств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ыхание учащается, несмотря на то, что лекарство должно было подействова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знаки тяжелого дыхания: грудь, шея, вытянуты, напряженное дыха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Трудно ходить, говори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ебенок прекращает игра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убы и ногти синие (если этот признак срочно!!! врача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Снижена пиковая скорость выдоха ниже 60 %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7640" y="1053000"/>
            <a:ext cx="8928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НЕСКОЛЬКО ШАГОВ,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КОТОРЫЕ СЛЕДУЕТ ПРЕДПРИНЯТЬ В СЛУЧАЕ ПРИСТУПА БРОНХИАЛЬНОЙ АСТМ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Определить, что вызывает затрудненное дых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Улица- пыльца растений, табачный ды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 беге – физическая нагруз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доме – домашняя пы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моции- огорчения, смех, бурные иг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Если приступ начинается сразу после е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ищевые продукты- орехи, рыба, шокола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ЧТО НУЖНО СДЕЛАТЬ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Устранить причину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уйти из этого мест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рекратить физические нагрузк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опытаться успокоиться расслабиться, сделать дыхательные упражнения (см приложение №1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во время приступа необходимо принять удобную позу и расслабиться. Дыхание должно быть редким и равномер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сделать 1-2 ингаляци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ить воду маленькими глоткам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ребенок должен сохранять спокойстви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одождать, чтобы лекарство подействовало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остараться думать о другом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если в течении 15-20 минут самочувствие не улучшилось и симптомы нарастают вызовите врач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объяснить врачу свои симптомы и какое лекарство ты приня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0" y="5794200"/>
            <a:ext cx="106848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БОРЬБА С ГИПОДИНАМИ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09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 комплексной терапии больного бронхиальной астмой, направленной на урегулирование у него высшей нервной деятельности, - повышение нервно – психического тонуса, применение специфической терапии, воздействие на вегетативную нервную систему, большое место должно быть отведено применению лечебной физической культур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4067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53200" y="640800"/>
            <a:ext cx="8199000" cy="12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РАЦИОНАЛЬНАЯ ДЫХАТЕЛЬНАЯ ГИМНАСТИКА по К.П. Бутейко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(волевая ликвидация глубокого дыхания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Этот комплекс заключается в постепенном уменьшении глубины дыхания путем постоянного расслабления дыхательной мускулатуры, либо задержек дыхания до появления ощущения легкого недостатка воздуха. Тренировки производятся в условиях покоя и мышечной релаксации. Дышать следует только через но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АЦИОНАЛЬНАЯ ДЫХАТЕЛЬНАЯ ГИМНАСТИ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Основные этапы методик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добно сесть, расслабиться, сосредоточить внимание на дыха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ыполнить спокойный поверхностный вдох в течение 3 секунд (вдох от носа доходит только до ключиц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роизвести спокойный сдержанный выдох в течение 3-4 секунд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адержать дыхание после выдоха (вначале на 3-4 сек, затем постепенно, по мере тренированности, длительность апное увеличивается). Задержка дыхания вызывает на короткое время гипоксемию и гиперкап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ыполнить спокойный неглубокий вдох и т.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АЦИОНАЛЬНАЯ ДЫХАТЕЛЬНАЯ ГИМНАСТИ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отивопоказани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астматический статус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К, вызванная декомплексным хранением легочного сердца или другими причинам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сихические заболевания или психопатия с негативным отношением к ВЛГД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нфаркт миокар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ДЫХАТЕЛЬНАЯ ГИМНАСТИКА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О СТРЕЛЬНИКОВО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Эта гимнастика чрезвычайно благотворно воздействует на организм в цело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восстанавливает нарушенное носовое дых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улучшает дренажную функцию бронх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устраняет некоторые морфологические изменения в бронхиальной астм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способствует рассасыванию воспалительных образований, расправлению сморщенных участков ткани, восстановлению кровообращения и лимфообращения, устранению местных застойных явле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оложительно влияет на обменные процес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налаживает нарушение функции СС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исправляет развивающиеся в процессе заболевания различные деформации грудной клетки и позвоноч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способствует восстановлению нарушенных в ходе болезни нервных регуляций со стороны ЦН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овышает общую сопротивляемость организма, его тонус, улучшает нервно-психическое состоя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ОСНОВНОЙ КОМПЛЕКС ДЫХАТЕЛЬНЫХ УПРАЖНЕНИЙ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пражнение "ладошки"- разминочн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"погончики"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"насос" (накачивание шины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"кошка" (приседание с поворотом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"обними плечи" (вдох на сжатии грудной клетк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"большой маятник" ("насос"+"обними плечи"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УПРАЖНЕНИЕ «ЛАДОШК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Исходное положение: станьте прямо, согните руки в локтях (локти вниз) и "покажите ладони зрителю" - - "поза экстрасенса". Делайте шумные, короткие, ритмичные вдохи носом и одновременно сжимайте ладони в кулаки (хватательные движения). Подряд сделайте 4 резких, ритмичных вдоха носом (то есть "шмыгните" 4 раза). Затем руки опустите и отдохните 3-4 секунды - пауза; Сделайте еще 4 коротких, шумных вдоха и снова пауза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омните! Активный вдох носом - абсолютно пассивный, неслышный выдох через ро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Норма: "прошмыгайте" носом 24 раза по 4 вдох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Упражнение "Ладошки" можно делать стоя, сидя и лежа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В начале урока возможно легкое головокружение. Не пугайтесь: оно пройдет к концу урока. Если головокружение сильное, сядьте и проделайте весь урок сидя, делая паузы после каждых 4 вдохов-движений (отдыхать можно не 3-4 секунды, а от 5 до 10 секунд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5840280" y="2997360"/>
            <a:ext cx="2835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УПРАЖНЕНИЕ «ПОГОНЧИК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ходное положение: станьте прямо, кисти рук сожмите в кулаки и прижмите к животу на уровне пояса. В момент вдоха резко толкайте кулаки вниз к полу, как бы отжимаясь от него (плечи напряжены, руки прямые, тянутся к полу). Затем кисти рук возвращаются в и.п. на уровень пояса. Плечи расслаблены - выдох "ушел". Выше пояса кисти рук не поднимайте. Сделайте подряд уже не 4 вдоха-движения, а 8. Затем отдых 3-4 секунды и снова 8. вдохов-движений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рма: 12 раз по 8 вдохов-движений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жнение "Погончики" можно делать стоя, сидя и леж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1"/>
          <a:stretch/>
        </p:blipFill>
        <p:spPr>
          <a:xfrm>
            <a:off x="5900760" y="3068640"/>
            <a:ext cx="27036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25T07:39:27Z</dcterms:modified>
  <cp:revision>7</cp:revision>
  <dc:subject/>
  <dc:title>PowerPoint Presentation</dc:title>
</cp:coreProperties>
</file>