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59E5-F483-4CBA-9B67-B33BDC8D3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F1B3-8CF7-4B6D-8A2C-A46702211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594E-2485-402E-B002-440D20F53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2761-30D4-435E-8EE0-3251E43DB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5490B-4168-4099-ABEC-D55D1F216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2474E-9061-4DBA-BC69-1D2BFC75E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79C86-7EE3-46E6-BB5F-675D8DE41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96902-345F-41B9-B14B-10C672C8C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362AD-0D85-40E3-9056-67A5F35CA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11BD0-0956-4C6F-AAD8-35EF363B2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70C04-F591-4B89-9BE8-10616475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DB55-D8F8-4DE5-96AB-A14619CA8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37992-3DCF-4D38-9F1A-65A033A25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E103E-3292-4557-A7F8-2FEF5A61C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23FA9-B700-4828-88ED-314BBB7F2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80D06-438F-475F-98CA-B4CC3FFD0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5DE9C-C7D6-4D1B-B7C1-7125533E0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7CDA-99BE-42EA-9939-CB968197B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B3C8-1CFB-422A-AEFD-651348F86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547E-75D1-467F-9E65-FAA107CD2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A2A6-448E-436D-A016-37E82CC2C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025E-0B1B-4DC1-A986-8672E62DB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B47D-39A7-4AF1-B5CD-D463E92D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30AB-DBFA-4026-B816-D47A828D7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F46EC-C6D7-4437-80C3-35C59D6EAEA9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2CE81-87AB-48D8-8BBE-56CA7EBF2FC7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</a:rPr>
              <a:t>ТЕРАПИЯ И ПИТАНИЕ ПРИ БРОНХИАЛЬНОЙ АСТМЕ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69739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Терапия при бронхиальной астм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Разгрузочно-диетическая терапи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Влияние питания на здоровь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Ожирени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Рекомендации по питанию при бронхиальной астм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Лечебное питание при аллергических реакциях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39840" y="65160"/>
            <a:ext cx="545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ЗАНЯТИЕ №3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</a:rPr>
              <a:t>РЕКОМЕНДАЦИИ ПО ПИТАНИЮ ПРИ БРОНХИАЛЬНОЙ АСТМЕ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55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Бронхиальная астма имеет в основном инфекционно-аллергическое течение или аллергическое происхождение. Если нет указаний на непереносимость отдельных пищевых продуктов, рекомендуется физиологически полноценное питание, но с ограничением крепких мясных, рыбных и грибных бульонов и соусов, поваренной соли, острых и соленых продуктов, меда, шоколадных изделий.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</a:rPr>
              <a:t>ЛЕЧЕБНОЕ ПИТАНИЕ ПРИ АЛЛЕРГИЧЕСКИХ РЕАКЦИЯХ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55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Диетотерапия при заболеваниях, имеющих инфекционно-аллергическое происхождени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Аллергические реакции могут возникать на пыльцу цветущих растений, лекарства, бытовые и производственные химические вещества, а также отдельные продукты питания (пищевая аллергия). При этих состояниях диета должна быть физиологически полноценной, но не избыточной по энергоценности, содержанию белков, жиров и углеводов. В рационе ограничиваются сахар и содержащие его продукты (конфеты, варенье, пирожные, шоколад и др.), а также мед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</a:rPr>
              <a:t>ЛЕЧЕБНОЕ ПИТАНИЕ ПРИ АЛЛЕРГИЧЕСКИХ РЕАКЦИЯХ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3059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При пищевой аллергии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исключают из диеты продукты, вызывающие аллергические реакции, и изделия, содержащие эти продукты даже в малом количестве. Например, при непереносимости яиц исключают сдобные мучные изделия, кремы, майонез, запеканки и другие блюда, включающие по рецепту яйца. Диета с исключением продукта-аллергена называется элиминационной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</a:rPr>
              <a:t>ТЕРАПИИ ПРИ БРОНХИАЛЬНОЙ АСТМЕ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819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Элиминационная терапия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 – это полное и постоянное прекращение контакта больного с причинно – значимым аллергеном, т.е. аллергеном или группой аллергенов, вызывающих приступ бронхиальной астмы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Разгрузочно-диетическая терапия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 – лечебное голодание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</a:rPr>
              <a:t>РАЗГРУЗОЧНО-ДИЕТИЧЕСКАЯ ТЕРАПИЯ – ЛЕЧЕБНОЕ ГОЛОДАНИЕ.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6215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Механизм лечебного действия РДТ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подавление аллергического воспаления в бронхах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стимуляция глюкокортикоидной функции надпочечников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дезинтоксикация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улучшение бронхиальной проходимости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подавление иммунопатологического компонент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32640" y="843840"/>
            <a:ext cx="8728920" cy="11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</a:rPr>
              <a:t>3 ПЕРИОДА 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Times New Roman"/>
              </a:rPr>
              <a:t>РАЗГРУЗОЧНО-ДИЕТИЧЕСКОЙ ТЕРАПИИ.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Подготовительны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Разгрузочный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Восстановительны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</a:rPr>
              <a:t>ВЛИЯНИЕ ПИТАНИЯ НА ЗДОРОВЬЕ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10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Влияние питания является определяющим в обеспечении оптимального роста и развития человеческого организма, его трудоспособности, адаптации к воздействию различных агентов внешней среды. Фактор питания оказывает определяющее влияние на длительность жизни и активную деятельность человека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</a:rPr>
              <a:t>ОЖИРЕНИЕ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Ожирение – заболевание, характеризующиеся избытком жиров ткани в организме, приводящее к увеличению массы тел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788000" y="3141720"/>
            <a:ext cx="410508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</a:rPr>
              <a:t>ТИПЫ ОЖИРЕН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99640" y="2349360"/>
            <a:ext cx="453564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экзогенно-конституциональное ожирение,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вследствие несоответствия между поступлением и расходом энергии при наличии конституциональной предрасположенност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церебральное ожирение,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связанное с заболеванием головного мозга (травма, опухоли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эндокринное ожирение,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возникающее при патологии эндокринной системы (заболевание гипофиза, надпочечников, щитовидной железы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946840" y="2362320"/>
            <a:ext cx="2728800" cy="34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</a:rPr>
              <a:t>ОСЛОЖНЕНИЯ ОЖИРЕНИЯ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4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сахарный инсулинозависимый диабет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атеросклероз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гипертоническая болезнь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нарушение холестеринового обмена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рост онкологических заболеваний.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</a:rPr>
              <a:t>ПИТАНИЕ ПРИ ОЖИРЕНИ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126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Основные принципы питания при ожирении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назначение диеты с низкой энергетической ценностью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ограничение употребления углеводов, особенно легко усваивающихся, являющихся основными поставщиками энергии и легко превращающихся в организме в жир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ограничение количества жиров, при этом нужно учесть, что 50% общего количества жира должны составлять растительные жиры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создание чувства сытости путем назначения малокалорийной, но значительной по объему пищи (сырые овощи, фрукты)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многократное питание (до 5-6 раз в сутки) малыми порциями, исключение продуктов, возбуждающих аппетит (острые закуски, пряности)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ограничение соли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обязательное ежедневное употребление грубо волокнистой клетчатки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использование разгрузочных дней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2-10-25T07:38:33Z</dcterms:modified>
  <cp:revision>9</cp:revision>
  <dc:subject/>
  <dc:title>PowerPoint Presentation</dc:title>
</cp:coreProperties>
</file>